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7297560" y="6519960"/>
            <a:ext cx="187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a4c69"/>
                </a:solidFill>
                <a:latin typeface="Arial"/>
              </a:rPr>
              <a:t>Oxford University Press España, S.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174080" y="65181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4c69"/>
                </a:solidFill>
                <a:latin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662292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3160" y="664524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64000" y="6624720"/>
            <a:ext cx="360036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564000" y="6643800"/>
            <a:ext cx="360036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68120" y="830160"/>
            <a:ext cx="8834760" cy="5448240"/>
          </a:xfrm>
          <a:prstGeom prst="roundRect">
            <a:avLst>
              <a:gd name="adj" fmla="val 1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633760" y="6154560"/>
            <a:ext cx="66600" cy="954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652480" y="6094440"/>
            <a:ext cx="40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 LA BARRA ESPACIADORA PARA AVANZAR EN LOS CONTENI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7783560" y="264960"/>
            <a:ext cx="1074600" cy="500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158840" y="6488280"/>
            <a:ext cx="2333520" cy="276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7000" y="302400"/>
            <a:ext cx="2008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L CICLO OVÁR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74040" y="759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14600" y="922320"/>
            <a:ext cx="5200560" cy="5021280"/>
            <a:chOff x="1614600" y="922320"/>
            <a:chExt cx="5200560" cy="50212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0" t="55319" r="0" b="0"/>
            <a:stretch/>
          </p:blipFill>
          <p:spPr>
            <a:xfrm>
              <a:off x="1614600" y="3695760"/>
              <a:ext cx="504504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793880" y="922320"/>
              <a:ext cx="5021280" cy="27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1947240" y="343044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330280" y="3227400"/>
            <a:ext cx="4095720" cy="250920"/>
            <a:chOff x="2330280" y="3227400"/>
            <a:chExt cx="4095720" cy="250920"/>
          </a:xfrm>
        </p:grpSpPr>
        <p:sp>
          <p:nvSpPr>
            <p:cNvPr id="58" name=""/>
            <p:cNvSpPr/>
            <p:nvPr/>
          </p:nvSpPr>
          <p:spPr>
            <a:xfrm>
              <a:off x="2330280" y="3232080"/>
              <a:ext cx="100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se menstru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60760" y="3227400"/>
              <a:ext cx="131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se de prolife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42120" y="3227400"/>
              <a:ext cx="98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se secreto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746360" y="2843280"/>
            <a:ext cx="7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sor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muco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er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706400" y="2367000"/>
            <a:ext cx="1654200" cy="428400"/>
            <a:chOff x="1706400" y="2367000"/>
            <a:chExt cx="1654200" cy="428400"/>
          </a:xfrm>
        </p:grpSpPr>
        <p:sp>
          <p:nvSpPr>
            <p:cNvPr id="63" name=""/>
            <p:cNvSpPr/>
            <p:nvPr/>
          </p:nvSpPr>
          <p:spPr>
            <a:xfrm>
              <a:off x="1706400" y="2396880"/>
              <a:ext cx="973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mperatur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rpo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67400" y="2367000"/>
              <a:ext cx="49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 º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750320" y="952560"/>
            <a:ext cx="3410280" cy="533520"/>
            <a:chOff x="1750320" y="952560"/>
            <a:chExt cx="3410280" cy="533520"/>
          </a:xfrm>
        </p:grpSpPr>
        <p:sp>
          <p:nvSpPr>
            <p:cNvPr id="66" name=""/>
            <p:cNvSpPr/>
            <p:nvPr/>
          </p:nvSpPr>
          <p:spPr>
            <a:xfrm>
              <a:off x="1750320" y="1077840"/>
              <a:ext cx="94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mon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 la hipófi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7440" y="95256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18240" y="12398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841760" y="1490760"/>
            <a:ext cx="4359600" cy="417600"/>
            <a:chOff x="1841760" y="1490760"/>
            <a:chExt cx="4359600" cy="417600"/>
          </a:xfrm>
        </p:grpSpPr>
        <p:sp>
          <p:nvSpPr>
            <p:cNvPr id="70" name=""/>
            <p:cNvSpPr/>
            <p:nvPr/>
          </p:nvSpPr>
          <p:spPr>
            <a:xfrm>
              <a:off x="1841760" y="1490760"/>
              <a:ext cx="67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vari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 folícu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67320" y="1641600"/>
              <a:ext cx="84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du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19520" y="16542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vul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98360" y="1509840"/>
              <a:ext cx="60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erp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út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90640" y="1892160"/>
            <a:ext cx="4477680" cy="644040"/>
            <a:chOff x="1790640" y="1892160"/>
            <a:chExt cx="4477680" cy="644040"/>
          </a:xfrm>
        </p:grpSpPr>
        <p:sp>
          <p:nvSpPr>
            <p:cNvPr id="75" name=""/>
            <p:cNvSpPr/>
            <p:nvPr/>
          </p:nvSpPr>
          <p:spPr>
            <a:xfrm>
              <a:off x="1790640" y="195588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mon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vár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42400" y="2137680"/>
              <a:ext cx="925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gestero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38640" y="1892160"/>
              <a:ext cx="66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folicul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614920" y="4545720"/>
            <a:ext cx="98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emp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ás prob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ovul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4520" y="4581360"/>
            <a:ext cx="79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ien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próxi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c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1440" y="422100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stru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77560" y="46782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íodo fért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08:15:56Z</dcterms:created>
  <dc:creator>Carlitos</dc:creator>
  <dc:description/>
  <dc:language>en-US</dc:language>
  <cp:lastModifiedBy>momo</cp:lastModifiedBy>
  <dcterms:modified xsi:type="dcterms:W3CDTF">2006-07-17T09:47:51Z</dcterms:modified>
  <cp:revision>107</cp:revision>
  <dc:subject/>
  <dc:title>Diapositiva 1</dc:title>
</cp:coreProperties>
</file>